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48C-03B4-4247-BB08-D7FC5D9C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323-7CC0-4010-A300-3EA9891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15B-C49F-45F2-8ACF-975DFE8C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611-CEE7-4DDF-AE86-8C12AD79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7A7-4E78-46C4-8212-5571CD4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4B3-E084-4A17-BC23-5ACCBA03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8D0-600B-4003-9326-4A6770D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957-64D5-417F-A972-80272B4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2AD-EC5C-4556-B4CD-B1F6834E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AF0-6EFC-4689-8927-101D431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E0E-D75B-42E9-8360-B4364E8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C1C-9642-4D62-B3A3-A8C39B8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219-C3D2-46BE-B54A-E96C58AFC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6:17:17Z</dcterms:created>
  <dc:creator>Grupo Editorial</dc:creator>
  <dc:description/>
  <dc:language>en-US</dc:language>
  <cp:lastModifiedBy>Grupo Editorial</cp:lastModifiedBy>
  <dcterms:modified xsi:type="dcterms:W3CDTF">2001-09-27T16:19:59Z</dcterms:modified>
  <cp:revision>1</cp:revision>
  <dc:subject/>
  <dc:title>Sin título de diapositiva</dc:title>
</cp:coreProperties>
</file>